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03E-D7C7-468C-BF7C-7CB330153B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8C1-4F51-4C0A-8942-9E81FE2D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C17-34FA-4EFB-BE4A-2636268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F60-6DC7-4C44-AA14-7D80A007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52A-E3B2-455C-BDD8-EE13450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721E-9EE6-4F1E-A9A9-BABE505D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F0D-8D4C-47D1-AD46-54E9EC4B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25D-C28E-4D0D-A869-ECD93697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012A-0405-4415-9015-C9F8E6E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C87-A46C-426A-BD1F-EC01D3F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4128-6578-45A0-9ED6-FE1DF106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DDBC-ED53-4C42-8546-283F2DC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69F-B244-4065-9448-B85FD2FE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E4E0-3C37-4E3F-88D7-75E4D1C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B20-A38A-4DC8-A6FC-014D701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1C9E-3EF3-494E-A12D-51645E96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ED8-766E-4163-B828-37ACBC6B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056E-C6F9-4DE5-AEE3-9EF1CFBD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17E-3708-484C-88CF-151B543C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AFB-97E4-470E-AA2C-21031A8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456-AF60-4BE2-BAAA-96F7F1D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DB7-31EC-4AFC-9D7E-6C35F9BF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617-51EA-4412-88BF-C21698D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7A5-C118-4FA1-9CFA-68C520A8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426-BC14-4A11-8C7E-02840C1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7675-771A-4C2D-AEFE-2AB4334382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898-1C77-4C6D-8042-4F01CB07D3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25:54Z</dcterms:modified>
  <cp:revision>4</cp:revision>
  <dc:subject/>
  <dc:title>The 3 C’s</dc:title>
</cp:coreProperties>
</file>